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925D-E2A1-4740-AC35-1EC261BD0F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47D7-DFE9-4937-8C66-B1FA792083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F7078-54ED-4B46-9179-BBA9F75091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AAB6-FAFE-4F51-9EAC-274C3EFBAB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B29C-9074-4F7A-95BA-250E18ADE7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E686-FDCF-4B17-AE23-E5978F819D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B31B-FF89-48B6-B2E8-8834C219D9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0B83-CF8C-434C-94F7-6309F0CD09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EF3C-EC85-4EAB-9139-06BAA256360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7F578-C99B-4B28-8951-D75F59066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8F4B0-6715-4E1D-A3E6-139BE9AB0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2F040-7F96-479C-B26C-009EA8BB29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71CF3-CA89-4E2A-B3AB-22CB1AE2F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C75D4-9258-4693-8423-DAE053AED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3049A4-0956-4EAA-9786-6076B3CC1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FCDE4-EDCD-4ED5-88D2-6631B00DC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F91EA-CA4E-44D5-873A-50337DC87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36693-0E26-4615-8B19-6C0C7B6CA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A00FC-ABE7-4316-AAE0-32C1E44CB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B2FFD-05E0-4DF7-9724-C0F3665EC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F9D64-FD01-47CE-A751-8EB42AE76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24DF2-3B97-42F4-9771-7ED7C76710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GB" sz="6600" spc="-1" strike="noStrike">
                <a:solidFill>
                  <a:srgbClr val="c00000"/>
                </a:solidFill>
                <a:latin typeface="Calibri"/>
              </a:rPr>
              <a:t>Look who is wearing the pants!</a:t>
            </a:r>
            <a:br>
              <a:rPr sz="6600"/>
            </a:br>
            <a:br>
              <a:rPr sz="6600"/>
            </a:b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49" name="PlaceHolder 2"/>
          <p:cNvSpPr>
            <a:spLocks noGrp="1"/>
          </p:cNvSpPr>
          <p:nvPr>
            <p:ph type="subTitle"/>
          </p:nvPr>
        </p:nvSpPr>
        <p:spPr>
          <a:xfrm>
            <a:off x="539640" y="4797360"/>
            <a:ext cx="8064720" cy="1440000"/>
          </a:xfrm>
          <a:prstGeom prst="rect">
            <a:avLst/>
          </a:prstGeom>
          <a:noFill/>
          <a:ln w="0">
            <a:noFill/>
          </a:ln>
        </p:spPr>
        <p:txBody>
          <a:bodyPr anchor="t">
            <a:noAutofit/>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New Internationalist Easier English Ready Intermediate lesson</a:t>
            </a:r>
            <a:endParaRPr b="0" lang="en-US" sz="3700" spc="-1" strike="noStrike">
              <a:solidFill>
                <a:srgbClr val="000000"/>
              </a:solidFill>
              <a:latin typeface="Calibri"/>
            </a:endParaRPr>
          </a:p>
        </p:txBody>
      </p:sp>
      <p:pic>
        <p:nvPicPr>
          <p:cNvPr id="50" name="Picture 5" descr="new internationalist logo black on white.jpg"/>
          <p:cNvPicPr/>
          <p:nvPr/>
        </p:nvPicPr>
        <p:blipFill>
          <a:blip r:embed="rId1"/>
          <a:stretch/>
        </p:blipFill>
        <p:spPr>
          <a:xfrm>
            <a:off x="3132000" y="33336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 following is traditional in Indi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jean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greeting with hands together</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joining the police force</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loose cloth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vegetarian food</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rranged marriag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thinking the cow is holy</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Who do you think they are, where and wh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C:\Users\JohnS\Pictures\Indian police.jpg"/>
          <p:cNvPicPr/>
          <p:nvPr/>
        </p:nvPicPr>
        <p:blipFill>
          <a:blip r:embed="rId1"/>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se expressions is British English and which is North American English?</a:t>
            </a:r>
            <a:br>
              <a:rPr sz="4400"/>
            </a:br>
            <a:endParaRPr b="0" lang="en-US" sz="4400" spc="-1" strike="noStrike">
              <a:solidFill>
                <a:srgbClr val="000000"/>
              </a:solidFill>
              <a:latin typeface="Calibri"/>
            </a:endParaRPr>
          </a:p>
        </p:txBody>
      </p:sp>
      <p:sp>
        <p:nvSpPr>
          <p:cNvPr id="57"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100"/>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 phone</a:t>
            </a:r>
            <a:endParaRPr b="0" lang="en-US" sz="4400" spc="-1" strike="noStrike">
              <a:solidFill>
                <a:srgbClr val="000000"/>
              </a:solidFill>
              <a:latin typeface="Calibri"/>
            </a:endParaRPr>
          </a:p>
        </p:txBody>
      </p:sp>
      <p:sp>
        <p:nvSpPr>
          <p:cNvPr id="58"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Picture 2" descr="C:\Users\JohnS\Pictures\Indian police.jpg"/>
          <p:cNvPicPr/>
          <p:nvPr/>
        </p:nvPicPr>
        <p:blipFill>
          <a:blip r:embed="rId1"/>
          <a:stretch/>
        </p:blipFill>
        <p:spPr>
          <a:xfrm>
            <a:off x="2771640" y="260280"/>
            <a:ext cx="3787920" cy="237672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read the text quickly and answer the ques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o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Which country are they i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Why are they there?</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ook_who_is_wearing_the_p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68360" y="1484280"/>
            <a:ext cx="8229600" cy="4741920"/>
          </a:xfrm>
          <a:prstGeom prst="rect">
            <a:avLst/>
          </a:prstGeom>
          <a:noFill/>
          <a:ln w="0">
            <a:noFill/>
          </a:ln>
        </p:spPr>
        <p:txBody>
          <a:bodyPr anchor="t">
            <a:normAutofit/>
          </a:bodyPr>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are friend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jean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a police uniform.</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join the police forc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be different from traditional Indian girl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Uniforms in India are usually seen as negativ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The reporter thinks Anwara and Saheli  are strong.</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Read again and decide if the sentences are true or false</a:t>
            </a:r>
            <a:r>
              <a:rPr b="0" lang="en-GB" sz="4400" spc="-1" strike="noStrike">
                <a:solidFill>
                  <a:srgbClr val="c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is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 list of five things which people think are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nother list of five things which people think are not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haring Lis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tell as many people as possible about your two l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Now read the original article:</a:t>
            </a:r>
            <a:br>
              <a:rPr sz="4400"/>
            </a:b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3/08/14/look-whos-wearing-the-p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JohnS</cp:lastModifiedBy>
  <dcterms:modified xsi:type="dcterms:W3CDTF">2013-08-15T18:19:27Z</dcterms:modified>
  <cp:revision>56</cp:revision>
  <dc:subject/>
  <dc:title>Protecting the planet from climate-change</dc:title>
</cp:coreProperties>
</file>